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4E5-53D4-4EED-B052-8A18DD45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1DD-FB2E-4F0F-9AF3-5518FCA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44F-CE01-4481-A3F1-2359FB5D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EF4-259B-41AB-ACC4-C52CC2AA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78C-F810-42FF-8ABD-3DF10538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EB8-5772-40E1-BE63-E2B61A1B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26E-0187-439D-B8F5-9FB6342B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737-D32A-4F10-86A5-E7DC74C6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F4F-1FF1-4E59-8DBF-DDA8F567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AC5-A5E3-44A5-BE66-B955CDD6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92C-9D42-4F02-9EA4-571BA5B4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E4F-4631-46D5-B711-A31C928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767D-B72D-4B86-B604-4D50C2312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9:29:31Z</dcterms:created>
  <dc:creator>Joe Atocha</dc:creator>
  <dc:description/>
  <dc:language>en-US</dc:language>
  <cp:lastModifiedBy>dmcdonal</cp:lastModifiedBy>
  <cp:lastPrinted>2002-08-08T23:58:33Z</cp:lastPrinted>
  <dcterms:modified xsi:type="dcterms:W3CDTF">2008-03-26T15:21:55Z</dcterms:modified>
  <cp:revision>21</cp:revision>
  <dc:subject/>
  <dc:title>E Series HRM Quick Start Guide</dc:title>
</cp:coreProperties>
</file>